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6014-885D-4DD8-86A9-3F05FE2243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B57B-39E1-4965-976B-2871182531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有朋自远方来不亦乐乎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BE2-D954-4D41-A3B9-35412483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61A-A55C-4529-9108-9E749CA2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349-B43F-4324-908C-3847533D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D92-81F9-4369-A4C1-3E437AD0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CFC-0E0F-4385-8384-5470B64D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0E9-C8B1-4E46-AE8D-E71C559E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393-21C3-4479-B956-7B49EA52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E7EB-1D29-4D9E-B9A3-3E72A07D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704-858D-470A-BF48-F5E91BAB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862-90A0-474C-8703-E773FCB5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607-33FE-4F38-946E-00A0AB01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A86-C66F-40A6-995E-3B793109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AB20-A01F-480B-A369-C39256387B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20.xml"/><Relationship Id="rId7" Type="http://schemas.openxmlformats.org/officeDocument/2006/relationships/slide" Target="slide5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"/><Relationship Id="rId14" Type="http://schemas.openxmlformats.org/officeDocument/2006/relationships/slide" Target="slide6.xml"/><Relationship Id="rId15" Type="http://schemas.openxmlformats.org/officeDocument/2006/relationships/slide" Target="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13.xml"/><Relationship Id="rId7" Type="http://schemas.openxmlformats.org/officeDocument/2006/relationships/slide" Target="slide5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"/><Relationship Id="rId14" Type="http://schemas.openxmlformats.org/officeDocument/2006/relationships/slide" Target="slide6.xml"/><Relationship Id="rId15" Type="http://schemas.openxmlformats.org/officeDocument/2006/relationships/slide" Target="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d-sixiangjia_04"/>
          <p:cNvPicPr/>
          <p:nvPr/>
        </p:nvPicPr>
        <p:blipFill>
          <a:blip r:embed="rId1"/>
          <a:stretch/>
        </p:blipFill>
        <p:spPr>
          <a:xfrm>
            <a:off x="6361200" y="0"/>
            <a:ext cx="2782800" cy="35733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3" descr=""/>
          <p:cNvPicPr/>
          <p:nvPr/>
        </p:nvPicPr>
        <p:blipFill>
          <a:blip r:embed="rId2"/>
          <a:stretch/>
        </p:blipFill>
        <p:spPr>
          <a:xfrm>
            <a:off x="884160" y="1262160"/>
            <a:ext cx="7077240" cy="46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直译课文</a:t>
            </a:r>
            <a:r>
              <a:rPr b="1" lang="en-US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请君对照</a:t>
            </a:r>
            <a:r>
              <a:rPr b="1" lang="en-US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惠子在梁国当宰相，庄子去看望他。有人告诉惠子说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庄子到梁国来，想（或就要）取代你做宰相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于是惠子非常担心，在国都搜捕三天三夜。庄子前去见他，说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南方有一种鸟，它的名字叫鹓雏，你知道它吗？鹓雏从南海起飞，飞到北海去，不是梧桐树不栖息，不是竹子的果实不吃，不是甜美的泉水不喝。在这时，一只猫头鹰拾到一只腐臭的老鼠，鹓雏从它面前飞过，（猫头鹰）仰头看着鹓雏，发出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‘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吓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怒斥声。难道现在你想用你的梁国（相位）来威吓我吗？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214200" y="214200"/>
            <a:ext cx="41436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华文楷体"/>
              </a:rPr>
              <a:t>品故事</a:t>
            </a:r>
            <a:endParaRPr b="1" lang="en-US" sz="8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357120" y="1428840"/>
            <a:ext cx="87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寓言往往采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喻法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，在本文中，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鹓鶵、鸱、腐鼠、各比作什么</a:t>
            </a: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?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故事的用意是什么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鹓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腐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梧桐、练实、醴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既表明自己的立场和志趣，又极其辛辣地讽刺了惠子醉心于功名利禄且无端猜忌别人的丑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372360" y="765000"/>
            <a:ext cx="302400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907000" y="1700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自已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2907000" y="227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惠子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967120" y="2852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功名利禄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5301720" y="3573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高洁的志趣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494760" y="316440"/>
            <a:ext cx="264924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尖锐深刻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巧妙贴切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余味不尽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324000" y="620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寓言往往采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比喻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在本文中，腐鼠、鹓鶵、鸱各比作什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寓意是什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24000" y="0"/>
            <a:ext cx="31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我们的思考</a:t>
            </a:r>
            <a:br>
              <a:rPr sz="4000"/>
            </a:b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惠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醉心于功名富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对朋友薄情寡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庄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清高自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机智幽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5435640" y="981000"/>
            <a:ext cx="504720" cy="3888000"/>
          </a:xfrm>
          <a:custGeom>
            <a:avLst/>
            <a:gdLst>
              <a:gd name="textAreaLeft" fmla="*/ 67320 w 504720"/>
              <a:gd name="textAreaRight" fmla="*/ 437400 w 504720"/>
              <a:gd name="textAreaTop" fmla="*/ 680400 h 3888000"/>
              <a:gd name="textAreaBottom" fmla="*/ 2818800 h 388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WordArt 5"/>
          <p:cNvSpPr txBox="1"/>
          <p:nvPr/>
        </p:nvSpPr>
        <p:spPr>
          <a:xfrm rot="5400000">
            <a:off x="4972320" y="2093040"/>
            <a:ext cx="330516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楷体_GB2312"/>
              </a:rPr>
              <a:t>鲜明对比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214200" y="214200"/>
            <a:ext cx="46436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华文楷体"/>
              </a:rPr>
              <a:t>自学检测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357120" y="1000080"/>
            <a:ext cx="44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解释下面字词意思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85840" y="22860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谓惠子曰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428760" y="2857680"/>
            <a:ext cx="22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欲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子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相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269360" y="3500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搜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国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中三日三夜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1026360" y="4143240"/>
            <a:ext cx="17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非梧桐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止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5081760" y="5510160"/>
            <a:ext cx="183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357120" y="4786200"/>
            <a:ext cx="335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非练实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1617840" y="54291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今子欲以子之梁国而吓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邪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428760" y="16430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惠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相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梁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2643120" y="157176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辅助君主的人，相当于后代的宰相。这里用作动词，做宰相的意思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TextBox 16"/>
          <p:cNvSpPr/>
          <p:nvPr/>
        </p:nvSpPr>
        <p:spPr>
          <a:xfrm>
            <a:off x="4022280" y="24289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词，有的，有的人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3439440" y="2928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尊称，您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5442120" y="350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都，京城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TextBox 19"/>
          <p:cNvSpPr/>
          <p:nvPr/>
        </p:nvSpPr>
        <p:spPr>
          <a:xfrm>
            <a:off x="4007160" y="4214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栖息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TextBox 20"/>
          <p:cNvSpPr/>
          <p:nvPr/>
        </p:nvSpPr>
        <p:spPr>
          <a:xfrm>
            <a:off x="4005000" y="4929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吃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TextBox 21"/>
          <p:cNvSpPr/>
          <p:nvPr/>
        </p:nvSpPr>
        <p:spPr>
          <a:xfrm>
            <a:off x="5315040" y="614376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“耶”，句末语气词，吗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986040" y="214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一词多义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1143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142920" y="857160"/>
            <a:ext cx="9001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仰而视之曰：“吓”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今子欲以子之梁国而吓我邪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夫鹓雏发于南海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于是鸱得腐鼠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而飞于北海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③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惠子相梁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欲代子相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④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于是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于是惠子恐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于是鸱得腐鼠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756320" y="121428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模仿鸱发怒的声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5523840" y="1714680"/>
            <a:ext cx="19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吓用作动词，威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002840" y="2500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起飞、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3290760" y="3000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在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2928960" y="350028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到达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3080520" y="4286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做宰相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3302640" y="4714920"/>
            <a:ext cx="13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相位，宰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3437640" y="5572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表转折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3437640" y="607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在这时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986040" y="214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一词多义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0" y="1143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42920" y="857160"/>
            <a:ext cx="900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仰而视之曰：“吓”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今子欲以子之梁国而吓我邪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夫鹓雏发于南海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于是鸱得腐鼠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而飞于北海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756320" y="121428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模仿鸱发怒的声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523840" y="1714680"/>
            <a:ext cx="19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吓用作动词，威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4002840" y="2500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起飞、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3290760" y="3000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在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2928960" y="350028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到达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2931120" y="47149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1694520" y="333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46200" y="57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特殊句式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28760" y="1071720"/>
            <a:ext cx="846432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省略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句 惠子相梁 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改 惠子相于梁 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译 惠子在梁国做宰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例：搜于国中三日三夜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搜（庄子）于国中三日三夜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倒装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句 夫鹓雏发于南海        （状语后置） 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改 夫鹓雏于南海发 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译 鹓雏从南海出发 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403280" y="4941720"/>
            <a:ext cx="5113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14240" y="40006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例：搜于国中三日三夜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于国中搜三日三夜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09548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835440" y="311040"/>
            <a:ext cx="140004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惠子为相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庄子看望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835440" y="2184480"/>
            <a:ext cx="140004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受人挑拨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搜捕庄子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835440" y="3695760"/>
            <a:ext cx="140004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主动往见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奇鸟为喻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835440" y="5711760"/>
            <a:ext cx="140004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巧妙讽刺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36" name="Group 7"/>
          <p:cNvGrpSpPr/>
          <p:nvPr/>
        </p:nvGrpSpPr>
        <p:grpSpPr>
          <a:xfrm>
            <a:off x="1619280" y="549360"/>
            <a:ext cx="1368360" cy="5815080"/>
            <a:chOff x="1619280" y="549360"/>
            <a:chExt cx="1368360" cy="5815080"/>
          </a:xfrm>
        </p:grpSpPr>
        <p:sp>
          <p:nvSpPr>
            <p:cNvPr id="137" name="Text Box 8"/>
            <p:cNvSpPr/>
            <p:nvPr/>
          </p:nvSpPr>
          <p:spPr>
            <a:xfrm>
              <a:off x="1763640" y="54936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0000"/>
                  </a:solidFill>
                  <a:latin typeface="Arial"/>
                </a:rPr>
                <a:t>起因</a:t>
              </a:r>
              <a:endParaRPr b="1" lang="en-US" sz="40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1690560" y="3286080"/>
              <a:ext cx="129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0000"/>
                  </a:solidFill>
                  <a:latin typeface="Arial"/>
                </a:rPr>
                <a:t>经过</a:t>
              </a:r>
              <a:endParaRPr b="1" lang="en-US" sz="40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1619280" y="5661000"/>
              <a:ext cx="136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0000"/>
                  </a:solidFill>
                  <a:latin typeface="Arial"/>
                </a:rPr>
                <a:t>结果</a:t>
              </a:r>
              <a:endParaRPr b="1" lang="en-US" sz="40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  <p:sp>
        <p:nvSpPr>
          <p:cNvPr id="140" name="AutoShape 11"/>
          <p:cNvSpPr/>
          <p:nvPr/>
        </p:nvSpPr>
        <p:spPr>
          <a:xfrm>
            <a:off x="5867280" y="414972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7239240" y="549360"/>
            <a:ext cx="1642680" cy="59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出人意料，富有趣味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6650280" y="2543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疑心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6650280" y="743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欣喜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6650280" y="3984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黑体"/>
              </a:rPr>
              <a:t>从容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6650280" y="5638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黑体"/>
              </a:rPr>
              <a:t>蔑视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AutoShape 17"/>
          <p:cNvSpPr/>
          <p:nvPr/>
        </p:nvSpPr>
        <p:spPr>
          <a:xfrm>
            <a:off x="5867280" y="90972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5867280" y="278136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5867280" y="580392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3130560" y="333360"/>
            <a:ext cx="144360" cy="1295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3132000" y="2205000"/>
            <a:ext cx="216000" cy="287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3059280" y="566100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1403280" y="765000"/>
            <a:ext cx="216000" cy="540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-331560" y="2205000"/>
            <a:ext cx="1642680" cy="252108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惠子相梁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313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楷体_GB2312"/>
              </a:rPr>
              <a:t>庄子</a:t>
            </a:r>
            <a:br>
              <a:rPr sz="4400"/>
            </a:b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约前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69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86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庄子5"/>
          <p:cNvPicPr/>
          <p:nvPr/>
        </p:nvPicPr>
        <p:blipFill>
          <a:blip r:embed="rId1"/>
          <a:stretch/>
        </p:blipFill>
        <p:spPr>
          <a:xfrm>
            <a:off x="250920" y="152280"/>
            <a:ext cx="252072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庄子"/>
          <p:cNvPicPr/>
          <p:nvPr/>
        </p:nvPicPr>
        <p:blipFill>
          <a:blip r:embed="rId2"/>
          <a:stretch/>
        </p:blipFill>
        <p:spPr>
          <a:xfrm>
            <a:off x="395280" y="4267080"/>
            <a:ext cx="2217600" cy="2590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203640" y="549360"/>
            <a:ext cx="53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庄子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名周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，战国人。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道家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学派的代表人物，老子思想的继承和发展者。后世将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他与老子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并称为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老庄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。平民哲学家，一向不慕功名，无意于仕途，追求一种自由自在的隐居生活，主张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君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无为而治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代表作品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逍遥游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》《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庖丁解牛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等，所著文章，内容丰富，气势磅礴，笔锋犀利，寓意深刻。后人辑为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庄子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一书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亦称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南华经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，共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</a:rPr>
              <a:t>33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篇。其中有许多奇特有趣的寓言故事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590400" y="18860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．</a:t>
            </a:r>
            <a:r>
              <a:rPr b="0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夫鵷雏发于南海，而飞于北海，非梧桐不止，非练实不食，非醴泉不饮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92200" y="3787920"/>
            <a:ext cx="79912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　　用排比句，从“止”“食”“饮”这三方面的生活习性，以物喻人，表达庄子的志向高洁。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6" name="Picture 6" descr="002b"/>
          <p:cNvPicPr/>
          <p:nvPr/>
        </p:nvPicPr>
        <p:blipFill>
          <a:blip r:embed="rId1"/>
          <a:stretch/>
        </p:blipFill>
        <p:spPr>
          <a:xfrm rot="16200000">
            <a:off x="4999680" y="-427680"/>
            <a:ext cx="692280" cy="1547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002b"/>
          <p:cNvPicPr/>
          <p:nvPr/>
        </p:nvPicPr>
        <p:blipFill>
          <a:blip r:embed="rId2"/>
          <a:stretch/>
        </p:blipFill>
        <p:spPr>
          <a:xfrm rot="16200000">
            <a:off x="3486960" y="-427680"/>
            <a:ext cx="692280" cy="1547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>
            <a:hlinkClick r:id="" action="ppaction://hlinkshowjump?jump=nextslide"/>
          </p:cNvPr>
          <p:cNvSpPr/>
          <p:nvPr/>
        </p:nvSpPr>
        <p:spPr>
          <a:xfrm>
            <a:off x="7956720" y="6165720"/>
            <a:ext cx="792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Rectangle 9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86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84200" y="31273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品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Rectangle 13">
            <a:hlinkClick r:id="rId3" action="ppaction://hlinksldjump"/>
          </p:cNvPr>
          <p:cNvSpPr/>
          <p:nvPr/>
        </p:nvSpPr>
        <p:spPr>
          <a:xfrm>
            <a:off x="7020000" y="116208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Rectangle 15">
            <a:hlinkClick r:id="rId4" action="ppaction://hlinksldjump"/>
          </p:cNvPr>
          <p:cNvSpPr/>
          <p:nvPr/>
        </p:nvSpPr>
        <p:spPr>
          <a:xfrm>
            <a:off x="7020000" y="1522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Rectangle 16">
            <a:hlinkClick r:id="rId5" action="ppaction://hlinksldjump"/>
          </p:cNvPr>
          <p:cNvSpPr/>
          <p:nvPr/>
        </p:nvSpPr>
        <p:spPr>
          <a:xfrm>
            <a:off x="7020000" y="418608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Rectangle 17">
            <a:hlinkClick r:id="rId6" action="ppaction://hlinksldjump"/>
          </p:cNvPr>
          <p:cNvSpPr/>
          <p:nvPr/>
        </p:nvSpPr>
        <p:spPr>
          <a:xfrm>
            <a:off x="7020000" y="289080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Rectangle 18">
            <a:hlinkClick r:id="rId7" action="ppaction://hlinksldjump"/>
          </p:cNvPr>
          <p:cNvSpPr/>
          <p:nvPr/>
        </p:nvSpPr>
        <p:spPr>
          <a:xfrm>
            <a:off x="7020000" y="217188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Rectangle 19">
            <a:hlinkClick r:id="rId8" action="ppaction://hlinksldjump"/>
          </p:cNvPr>
          <p:cNvSpPr/>
          <p:nvPr/>
        </p:nvSpPr>
        <p:spPr>
          <a:xfrm>
            <a:off x="7020000" y="2530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Rectangle 20">
            <a:hlinkClick r:id="rId9" action="ppaction://hlinksldjump"/>
          </p:cNvPr>
          <p:cNvSpPr/>
          <p:nvPr/>
        </p:nvSpPr>
        <p:spPr>
          <a:xfrm>
            <a:off x="7020000" y="317988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Rectangle 21">
            <a:hlinkClick r:id="rId10" action="ppaction://hlinksldjump"/>
          </p:cNvPr>
          <p:cNvSpPr/>
          <p:nvPr/>
        </p:nvSpPr>
        <p:spPr>
          <a:xfrm>
            <a:off x="7020000" y="354024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Rectangle 22">
            <a:hlinkClick r:id="rId11" action="ppaction://hlinksldjump"/>
          </p:cNvPr>
          <p:cNvSpPr/>
          <p:nvPr/>
        </p:nvSpPr>
        <p:spPr>
          <a:xfrm>
            <a:off x="7020000" y="3538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Rectangle 23">
            <a:hlinkClick r:id="rId12" action="ppaction://hlinksldjump"/>
          </p:cNvPr>
          <p:cNvSpPr/>
          <p:nvPr/>
        </p:nvSpPr>
        <p:spPr>
          <a:xfrm>
            <a:off x="7020000" y="382572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Rectangle 24">
            <a:hlinkClick r:id="rId13" action="ppaction://hlinksldjump"/>
          </p:cNvPr>
          <p:cNvSpPr/>
          <p:nvPr/>
        </p:nvSpPr>
        <p:spPr>
          <a:xfrm>
            <a:off x="7020000" y="4546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Rectangle 25">
            <a:hlinkClick r:id="rId14" action="ppaction://hlinksldjump"/>
          </p:cNvPr>
          <p:cNvSpPr/>
          <p:nvPr/>
        </p:nvSpPr>
        <p:spPr>
          <a:xfrm>
            <a:off x="7020000" y="188280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Rectangle 26">
            <a:hlinkClick r:id="rId15" action="ppaction://hlinksldjump"/>
          </p:cNvPr>
          <p:cNvSpPr/>
          <p:nvPr/>
        </p:nvSpPr>
        <p:spPr>
          <a:xfrm>
            <a:off x="7020000" y="483408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Text Box 27"/>
          <p:cNvSpPr/>
          <p:nvPr/>
        </p:nvSpPr>
        <p:spPr>
          <a:xfrm>
            <a:off x="971640" y="508464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（采用排比和比喻，从住，吃、喝三方面，表现出庄子的志向高洁）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539640" y="19162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．于是惠子恐，搜于国中三日三夜。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95280" y="3573360"/>
            <a:ext cx="874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运用心理描写和行为描写，揭示出惠子醉心功名利禄的思想。   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7" name="Picture 6" descr="002b"/>
          <p:cNvPicPr/>
          <p:nvPr/>
        </p:nvPicPr>
        <p:blipFill>
          <a:blip r:embed="rId1"/>
          <a:stretch/>
        </p:blipFill>
        <p:spPr>
          <a:xfrm rot="16200000">
            <a:off x="4712400" y="-427680"/>
            <a:ext cx="692280" cy="1547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002b"/>
          <p:cNvPicPr/>
          <p:nvPr/>
        </p:nvPicPr>
        <p:blipFill>
          <a:blip r:embed="rId2"/>
          <a:stretch/>
        </p:blipFill>
        <p:spPr>
          <a:xfrm rot="16200000">
            <a:off x="3199320" y="-428040"/>
            <a:ext cx="692280" cy="154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8">
            <a:hlinkClick r:id="" action="ppaction://hlinkshowjump?jump=nextslide"/>
          </p:cNvPr>
          <p:cNvSpPr/>
          <p:nvPr/>
        </p:nvSpPr>
        <p:spPr>
          <a:xfrm>
            <a:off x="7956720" y="6165720"/>
            <a:ext cx="792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Rectangle 9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86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95280" y="26622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品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Rectangle 13">
            <a:hlinkClick r:id="rId3" action="ppaction://hlinksldjump"/>
          </p:cNvPr>
          <p:cNvSpPr/>
          <p:nvPr/>
        </p:nvSpPr>
        <p:spPr>
          <a:xfrm>
            <a:off x="7020000" y="116208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Rectangle 15">
            <a:hlinkClick r:id="rId4" action="ppaction://hlinksldjump"/>
          </p:cNvPr>
          <p:cNvSpPr/>
          <p:nvPr/>
        </p:nvSpPr>
        <p:spPr>
          <a:xfrm>
            <a:off x="7020000" y="1522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Rectangle 16">
            <a:hlinkClick r:id="rId5" action="ppaction://hlinksldjump"/>
          </p:cNvPr>
          <p:cNvSpPr/>
          <p:nvPr/>
        </p:nvSpPr>
        <p:spPr>
          <a:xfrm>
            <a:off x="7020000" y="418608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5" name="Rectangle 17">
            <a:hlinkClick r:id="rId6" action="ppaction://hlinksldjump"/>
          </p:cNvPr>
          <p:cNvSpPr/>
          <p:nvPr/>
        </p:nvSpPr>
        <p:spPr>
          <a:xfrm>
            <a:off x="7020000" y="289080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Rectangle 18">
            <a:hlinkClick r:id="rId7" action="ppaction://hlinksldjump"/>
          </p:cNvPr>
          <p:cNvSpPr/>
          <p:nvPr/>
        </p:nvSpPr>
        <p:spPr>
          <a:xfrm>
            <a:off x="7020000" y="217188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Rectangle 19">
            <a:hlinkClick r:id="rId8" action="ppaction://hlinksldjump"/>
          </p:cNvPr>
          <p:cNvSpPr/>
          <p:nvPr/>
        </p:nvSpPr>
        <p:spPr>
          <a:xfrm>
            <a:off x="7020000" y="2530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Rectangle 20">
            <a:hlinkClick r:id="rId9" action="ppaction://hlinksldjump"/>
          </p:cNvPr>
          <p:cNvSpPr/>
          <p:nvPr/>
        </p:nvSpPr>
        <p:spPr>
          <a:xfrm>
            <a:off x="7020000" y="317988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9" name="Rectangle 21">
            <a:hlinkClick r:id="rId10" action="ppaction://hlinksldjump"/>
          </p:cNvPr>
          <p:cNvSpPr/>
          <p:nvPr/>
        </p:nvSpPr>
        <p:spPr>
          <a:xfrm>
            <a:off x="7020000" y="354024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Rectangle 22">
            <a:hlinkClick r:id="rId11" action="ppaction://hlinksldjump"/>
          </p:cNvPr>
          <p:cNvSpPr/>
          <p:nvPr/>
        </p:nvSpPr>
        <p:spPr>
          <a:xfrm>
            <a:off x="7020000" y="3538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1" name="Rectangle 23">
            <a:hlinkClick r:id="rId12" action="ppaction://hlinksldjump"/>
          </p:cNvPr>
          <p:cNvSpPr/>
          <p:nvPr/>
        </p:nvSpPr>
        <p:spPr>
          <a:xfrm>
            <a:off x="7020000" y="382572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Rectangle 24">
            <a:hlinkClick r:id="rId13" action="ppaction://hlinksldjump"/>
          </p:cNvPr>
          <p:cNvSpPr/>
          <p:nvPr/>
        </p:nvSpPr>
        <p:spPr>
          <a:xfrm>
            <a:off x="7020000" y="4546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Rectangle 25">
            <a:hlinkClick r:id="rId14" action="ppaction://hlinksldjump"/>
          </p:cNvPr>
          <p:cNvSpPr/>
          <p:nvPr/>
        </p:nvSpPr>
        <p:spPr>
          <a:xfrm>
            <a:off x="7020000" y="188280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Rectangle 26">
            <a:hlinkClick r:id="rId15" action="ppaction://hlinksldjump"/>
          </p:cNvPr>
          <p:cNvSpPr/>
          <p:nvPr/>
        </p:nvSpPr>
        <p:spPr>
          <a:xfrm>
            <a:off x="7020000" y="483408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324000" y="105264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．仰而视之曰：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吓！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今子欲以子之梁国而吓我邪</a:t>
            </a:r>
            <a:r>
              <a:rPr b="0" lang="en-US" sz="3600" spc="-1" strike="noStrike">
                <a:solidFill>
                  <a:srgbClr val="cc3300"/>
                </a:solidFill>
                <a:latin typeface="黑体"/>
                <a:ea typeface="黑体"/>
              </a:rPr>
              <a:t>？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755640" y="3675240"/>
            <a:ext cx="75247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吓”这一拟声词表现出“鸱”护卫腐鼠的丑态，使人如见其形，如闻其声。可谓传神之笔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97" name="Picture 5" descr="002b"/>
          <p:cNvPicPr/>
          <p:nvPr/>
        </p:nvPicPr>
        <p:blipFill>
          <a:blip r:embed="rId1"/>
          <a:stretch/>
        </p:blipFill>
        <p:spPr>
          <a:xfrm rot="16200000">
            <a:off x="1038960" y="-427680"/>
            <a:ext cx="692280" cy="1547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002b"/>
          <p:cNvPicPr/>
          <p:nvPr/>
        </p:nvPicPr>
        <p:blipFill>
          <a:blip r:embed="rId2"/>
          <a:stretch/>
        </p:blipFill>
        <p:spPr>
          <a:xfrm rot="16200000">
            <a:off x="4999680" y="-427680"/>
            <a:ext cx="692280" cy="1547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002b"/>
          <p:cNvPicPr/>
          <p:nvPr/>
        </p:nvPicPr>
        <p:blipFill>
          <a:blip r:embed="rId3"/>
          <a:stretch/>
        </p:blipFill>
        <p:spPr>
          <a:xfrm rot="16200000">
            <a:off x="3486960" y="-427680"/>
            <a:ext cx="692280" cy="15476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>
            <a:hlinkClick r:id="" action="ppaction://hlinkshowjump?jump=nextslide"/>
          </p:cNvPr>
          <p:cNvSpPr/>
          <p:nvPr/>
        </p:nvSpPr>
        <p:spPr>
          <a:xfrm>
            <a:off x="7956720" y="6165720"/>
            <a:ext cx="792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Rectangle 9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86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826920" y="263700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品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Rectangle 13">
            <a:hlinkClick r:id="rId4" action="ppaction://hlinksldjump"/>
          </p:cNvPr>
          <p:cNvSpPr/>
          <p:nvPr/>
        </p:nvSpPr>
        <p:spPr>
          <a:xfrm>
            <a:off x="7020000" y="116208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7020000" y="1522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7020000" y="418608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7020000" y="289080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7020000" y="217188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7020000" y="2530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Rectangle 20"/>
          <p:cNvSpPr/>
          <p:nvPr/>
        </p:nvSpPr>
        <p:spPr>
          <a:xfrm>
            <a:off x="7020000" y="317988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7020000" y="354024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7020000" y="3538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>
            <a:off x="7020000" y="382572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Rectangle 24"/>
          <p:cNvSpPr/>
          <p:nvPr/>
        </p:nvSpPr>
        <p:spPr>
          <a:xfrm>
            <a:off x="7020000" y="4546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7020000" y="188280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7020000" y="483408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1187280" y="1700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庄子思想精髓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17" name="Picture 4" descr="2003871942747728"/>
          <p:cNvPicPr/>
          <p:nvPr/>
        </p:nvPicPr>
        <p:blipFill>
          <a:blip r:embed="rId1"/>
          <a:stretch/>
        </p:blipFill>
        <p:spPr>
          <a:xfrm>
            <a:off x="5724360" y="1773360"/>
            <a:ext cx="3068640" cy="38163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1479600" y="292428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无欲无为   顺其自然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580400" y="4292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追求绝对的精神自由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684360" y="620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黑体"/>
              </a:rPr>
              <a:t>课外拓展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070440" y="404640"/>
            <a:ext cx="347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走近庄子 净化心灵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二、关于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庄子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庄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有很高的文学价值。其文汪洋恣肆，想象丰富，气势壮阔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庄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篇，分内篇、外篇、杂篇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内篇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庄子所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外篇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篇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杂篇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篇一般认为是其门人和后学者的伪作。庄子的想象力极为丰富，语言运用自如，灵活多变，能把一些微妙难言的哲理说得引人入胜。鲁迅先生称赞“其文则汪洋辟阖，仪态万方，晚周诸子之作，莫能先也”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汉文学史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郭沫若也评价说：“以思想家而兼文章家的人，在中国古代哲人中，实在是绝无仅有。”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庄子与鲁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因而他的作品被人称之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文学的哲学，哲学的文学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419640" y="764640"/>
            <a:ext cx="54352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课文选的两则故事均节选自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华文行楷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庄子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  <a:ea typeface="华文行楷"/>
              </a:rPr>
              <a:t>·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华文行楷"/>
              </a:rPr>
              <a:t>秋水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  <a:ea typeface="华文行楷"/>
              </a:rPr>
              <a:t>》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华文行楷"/>
              </a:rPr>
              <a:t>。标题是编者加的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0361"/>
          <p:cNvPicPr/>
          <p:nvPr/>
        </p:nvPicPr>
        <p:blipFill>
          <a:blip r:embed="rId1"/>
          <a:stretch/>
        </p:blipFill>
        <p:spPr>
          <a:xfrm>
            <a:off x="179280" y="2060640"/>
            <a:ext cx="3652920" cy="443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042920" y="1844640"/>
            <a:ext cx="684072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惠子相梁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55640" y="494172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</a:rPr>
              <a:t>相：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</a:rPr>
              <a:t>xi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à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</a:rPr>
              <a:t>ng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</a:rPr>
              <a:t>辅助君主的人，这里作动词，做宰相。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55640" y="3213000"/>
            <a:ext cx="785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惠子：即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惠施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战国时宋国人，哲学家，庄子好友。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785880" y="785880"/>
            <a:ext cx="7643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黑体"/>
                <a:ea typeface="迷你简方隶"/>
              </a:rPr>
              <a:t>学习目标：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  <a:ea typeface="宋体"/>
              </a:rPr>
              <a:t>、积累常用文言词语，丰富文言知识。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  <a:ea typeface="宋体"/>
              </a:rPr>
              <a:t>、理解文意，把握故事的寓意，理解庄子与惠子不同的志趣。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8534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琥珀简体"/>
              </a:rPr>
              <a:t>讲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7855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做了大官，好朋友来看望自己，这是令人高兴的事情，惠子对庄子来梁国起初的反应可能也是欣喜。可是在别人的挑拨下，他马上对庄子起了疑心，进而大动干戈，在城里进行大搜捕，非要把庄子拿捏在自己手里不可。气氛骤然紧张。庄子对此的反应如何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0" y="728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8534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琥珀简体"/>
              </a:rPr>
              <a:t>读故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方正琥珀简体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琥珀简体"/>
              </a:rPr>
              <a:t>（注意字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方正琥珀简体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琥珀简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惠子相梁，庄子往见之。或谓惠子曰：“庄子来，欲代子相。”于是惠子恐，搜于国中三日三夜。庄子往见之，曰：“南方有鸟，其名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鹓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子知之乎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夫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鹓雏发于南海，而飞于北海，非梧桐不止，非练实不食，非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醴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泉不饮。于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鸱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得腐鼠，鹓雏过之，仰而视之曰：‘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吓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’！今子欲以子之梁国而吓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邪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72864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自读课文，借助注释和工具书，读准字音和断句。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分角色读故事。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琥珀简体"/>
              </a:rPr>
              <a:t>说故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方正琥珀简体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琥珀简体"/>
              </a:rPr>
              <a:t>（注意：重点实虚词用法和文言句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惠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相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梁，庄子往见之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或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谓惠子曰：“庄子来，欲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子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相。”于是惠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恐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于国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中三日三夜。庄子往见之，曰：“南方有鸟，其名为鹓雏，子知之乎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夫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鹓雏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于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南海，而飞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于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北海，非梧桐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止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非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练实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食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非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醴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不饮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于是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鸱得腐鼠，鹓雏过之，仰而视之曰：‘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吓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’！今子欲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以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子之梁国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吓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邪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24000" y="12682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0" y="6206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、自读课文，借助注释和工具书，理解课文意思，如有不会还可以问老师。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、用现代汉语分角色说故事。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6:39:40Z</dcterms:created>
  <dc:creator>微软用户</dc:creator>
  <dc:description/>
  <dc:language>en-US</dc:language>
  <cp:lastModifiedBy>win7</cp:lastModifiedBy>
  <dcterms:modified xsi:type="dcterms:W3CDTF">2013-11-27T16:22:54Z</dcterms:modified>
  <cp:revision>45</cp:revision>
  <dc:subject/>
  <dc:title>幻灯片 1</dc:title>
</cp:coreProperties>
</file>